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3.png" ContentType="image/png"/>
  <Override PartName="/ppt/media/image13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4.png" ContentType="image/png"/>
  <Override PartName="/ppt/media/image27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3EC-BE9B-4728-8CB3-937A83AD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CF7-06F3-4F1D-A2AD-240CE234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3C6-C932-4A6D-8E0F-9F85E08A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F7F-8E17-468A-82F0-39B80AED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0BD9-5BCF-41EA-9037-0BC8E891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2858-25BD-413B-8114-12F0DEC8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BBA6-65D9-453C-9DCA-C3EC2461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1AC8-9201-409B-999F-CE007DF9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F3A0-4FB2-4664-9D8C-00486413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C9A4-8C95-4809-AABD-B68E71FF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616C-B659-4DBE-BF3A-3F25805B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C28-0CFB-4E75-8C94-071FEE0D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DA9B-83BF-4D8B-9DF7-FAE0D3F0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F40C-4464-401C-860A-A25401E9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990F-323C-4735-911D-E1BCFCDF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6DBB-E419-4C09-83B6-C37472F3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14F1-DD63-44F3-B25F-6D7A3329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414A9-2AA2-4CB5-8DAC-C94E11A2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8F4B3-59AE-4399-A3CB-3BECF441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42CB9-4693-4459-A6EC-259C99E2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E486F-8F9C-45C3-8C80-7389436F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4B0F8-A102-45AA-8405-CDF37B1E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5D3-56C9-4BAD-8015-CAF545E4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A7CEA-C322-4A0F-9B60-132CC87B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A15BB-59BB-4E03-BB2E-65DE3A66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5C4C-601E-46D1-A743-ACE6EBEE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C3571-2732-4912-8E4B-6B026ABF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DC0E3-BF3B-46A6-9BD9-3290E0D6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EF170-D07B-4876-9F68-6CD34231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64F3F-29EF-4E4D-B7B1-6E572E38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1FC8F-F4F9-45FA-B59F-3621D853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0820A-48A8-42D5-B7DD-5502EB6E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AF2FC-0E33-4E97-9512-A916FED7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3A0-E347-4B34-BDF3-5DE85548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F7F2D-8A7D-43E7-8F34-48B043EE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9CFDE-99FC-459A-9139-AE3DADF5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FBC6F-6BFE-4926-B1E5-C240E513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7FF9E-5C5B-49F2-9339-A9D44C05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02D96-4F9B-400D-A38B-C808821B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957A7-5286-494B-91EE-82D806FE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6E779-451F-4F40-A056-4EDBD598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68073-4B3D-4107-A2E8-FEBB5BFE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F4DAB-7914-4916-8F24-03C49561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3FE1F-431E-4D51-9D26-2C91CE97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C9E7-0241-428B-98C0-77AD11DA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42EA0-E593-45A5-B2ED-440262B8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198F2-1FFD-4D87-8071-557A8553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7B4BF-D5A2-4B99-9130-9DE4DDF0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87A90-EBF7-4C5F-BD71-0138CAFE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F7727-0960-45A2-809B-B711F4F5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E6739-AEF7-4CDB-B795-6BD2909D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AF5A3-74B3-425D-AC1F-669A337E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502C0-736C-4B64-9770-36E963D6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C7D28-BC4C-4E91-8801-2F591CD7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EEB3A-F041-431B-9576-E802FD0C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A47-5386-4238-8353-F3A083DD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14FE2-EE8B-4F87-9438-0DE3C220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558-8227-470D-9BAD-476A8D2D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DC7-5859-4122-825E-CB5B3F08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FE5-30B2-4F3D-B8C2-A04209FD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E83B-371E-4385-81CC-E519E70045A5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60CE-15E3-423C-A1DA-21800468B4C7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B12D-D3F1-437D-B751-22F71B483795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69A8-8E21-4012-ACA0-4A9287A35F85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1843-E686-4A93-8BD2-6B354C12ECD0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http://www.theforce.net/swtc/Pix/given/rb/ds16.jpg"/>
          <p:cNvPicPr/>
          <p:nvPr/>
        </p:nvPicPr>
        <p:blipFill>
          <a:blip r:embed="rId1"/>
          <a:stretch/>
        </p:blipFill>
        <p:spPr>
          <a:xfrm>
            <a:off x="0" y="1730520"/>
            <a:ext cx="9144000" cy="5127480"/>
          </a:xfrm>
          <a:prstGeom prst="rect">
            <a:avLst/>
          </a:prstGeom>
          <a:ln w="0">
            <a:noFill/>
          </a:ln>
        </p:spPr>
      </p:pic>
      <p:pic>
        <p:nvPicPr>
          <p:cNvPr id="391" name="Title 1" descr=""/>
          <p:cNvPicPr/>
          <p:nvPr/>
        </p:nvPicPr>
        <p:blipFill>
          <a:blip r:embed="rId2"/>
          <a:stretch/>
        </p:blipFill>
        <p:spPr>
          <a:xfrm>
            <a:off x="225360" y="225360"/>
            <a:ext cx="8693280" cy="7682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Alejandres Gannon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UC Berkeley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Know your time allocation before you give the order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all out predictable team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o not base it off of 1NC time allocatio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tick with your pre-speech time allocatio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laces to save tim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opicalit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as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Bad argument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rst arguments on each page should be part of a winning strategy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Longest and best card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Establish credibility early with the judg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hrase every argument offensively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Make every argument coun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ime sucks suck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Make all relevant (winnable) theory argumen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lways perm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pecify solvency defici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w Cen MT"/>
              </a:rPr>
              <a:t>Differentiate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each advantage and each mechanism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w Cen MT"/>
              </a:rPr>
              <a:t>Quantify 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each solvency deficit so it can be weighed against the net-benn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dentify and challenge the net-benefi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on’t read two cards that make the same argument EVER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ifferentiate your tag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Negative block has a 2:1 or 3:1 time ratio based off of the 2AC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re-empt 2NC cheating and nonsens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1NC kritik will never be the 2NR kritik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Leave nothing unchallenge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efend the hous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on’t forget about your 1AC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Identify and research the theories the 1AC defends/relies o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457200" y="5621040"/>
            <a:ext cx="83059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457200" y="4462560"/>
            <a:ext cx="83088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Keep your mouth shu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nything you want asked, write it down for the 1A to ask i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Let the 1A make a list of evidence indicts to tell you during prep or to bring up with you during your speech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7200" y="5621040"/>
            <a:ext cx="83059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9" name="Title 2" descr=""/>
          <p:cNvPicPr/>
          <p:nvPr/>
        </p:nvPicPr>
        <p:blipFill>
          <a:blip r:embed="rId1"/>
          <a:stretch/>
        </p:blipFill>
        <p:spPr>
          <a:xfrm>
            <a:off x="457200" y="4462560"/>
            <a:ext cx="83088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tart prepping out answers to the best possible 2NR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Write out impact overview using the context of the debat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2NR won’t make many new arguments the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ircle the arguments that the 2NR has to answer to win the debat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57200" y="5621040"/>
            <a:ext cx="83059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94" name="Title 3" descr=""/>
          <p:cNvPicPr/>
          <p:nvPr/>
        </p:nvPicPr>
        <p:blipFill>
          <a:blip r:embed="rId1"/>
          <a:stretch/>
        </p:blipFill>
        <p:spPr>
          <a:xfrm>
            <a:off x="457200" y="4462560"/>
            <a:ext cx="83088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tart with the </a:t>
            </a:r>
            <a:r>
              <a:rPr b="1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2AR momen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ake a step back and evaluate the big pictu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Look over your flow after you’ve written your 2AR out so you remember what you’re saying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Have the 1A get evidence cards for you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ive the 1A 30-45 seconds at the beginning of prep to share their though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Have the 1A look over your overview to make it more efficien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What is the nexus questio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Argument that will decide the debat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Where are you winning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Where are you losing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What argument will decide every other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ie everything other argument back to the 2AR momen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nd it early, find it ofte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rst words of the 2AR are first words of RF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o for 3 argumen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on’t extend every argument you hav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Keep track of the 2AR moment and don’t stray too far from i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etter to win 100% of 3 arguments than 49% of 7 argumen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pply the arguments you’re soundly winning to everything else on the flow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You will not 100% of the arguments in the debat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Making concessions to the negative on arguments you are losing will gain trust with the judge and give credibility to other claims you are making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40" name="Picture 2" descr="http://comicrelated.com/artwork/darthVader_hmed2_3p.hmedium.jpg"/>
          <p:cNvPicPr/>
          <p:nvPr/>
        </p:nvPicPr>
        <p:blipFill>
          <a:blip r:embed="rId2"/>
          <a:stretch/>
        </p:blipFill>
        <p:spPr>
          <a:xfrm>
            <a:off x="2514600" y="3581280"/>
            <a:ext cx="38862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Keep track of the big pictu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Only answer the arguments that matter/are relevan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ell the judge why you’re ignoring certain arguments or why they’re answered elsewhe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eauty of the 2AR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Justify them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ie them back to 1AR languag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2NR didn’t compare two arguments or explain why a particular argument was wrong which puts the burden on the 2AR to now make that compariso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Arguments are not new if they are based off of 2NR mistakes that the 2AR should have the right to capitalize o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2AR is all about saying why your arguments matter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hoose your strongest point and make it more important or relevant to the judges decision than your opponents strongest poin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e confident in your ability and after the debat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e passionat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8413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What does this team usually rea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What are common strategies against your affirmativ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What coaches are they speaking to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What do their cards look lik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hort politics card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Multi-colored card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Un-highlighted card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re they scrambling or “business as usual”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Hats, Headers, and Foldi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lphabetical vs frequency of us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void unnecessary card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uplicate where necessary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Let the 2A prepa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ackflow the 2AC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ards from non-core aff fil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oughts on cp tex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1" name="Picture 2" descr="http://i0.kym-cdn.com/photos/images/original/000/037/162/04.jpg?1264185458"/>
          <p:cNvPicPr/>
          <p:nvPr/>
        </p:nvPicPr>
        <p:blipFill>
          <a:blip r:embed="rId2"/>
          <a:stretch/>
        </p:blipFill>
        <p:spPr>
          <a:xfrm>
            <a:off x="2362320" y="3581280"/>
            <a:ext cx="40320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rep during the 1NC as the 1NC is making argumen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f you fall behind, leave that aside and get caught up, don’t let a backlog develop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on’t stand up until you understand every argument you’re answering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lways flow every single card and analytic argument on cas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5621040"/>
            <a:ext cx="83059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05" name="Title 3" descr=""/>
          <p:cNvPicPr/>
          <p:nvPr/>
        </p:nvPicPr>
        <p:blipFill>
          <a:blip r:embed="rId1"/>
          <a:stretch/>
        </p:blipFill>
        <p:spPr>
          <a:xfrm>
            <a:off x="457200" y="4462560"/>
            <a:ext cx="83088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Upsets happen when the 2AC doesn’t </a:t>
            </a:r>
            <a:r>
              <a:rPr b="1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fully understand a 1NC argumen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Upsets happen when the 2AC doesn’t </a:t>
            </a:r>
            <a:r>
              <a:rPr b="1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read offens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8" name="Picture 2" descr="http://3.bp.blogspot.com/-1tR5kHcn7iU/TdQhjKTEI-I/AAAAAAAAABw/DcL2DJvx8eo/s1600/mural__death_star_explosion.jpg"/>
          <p:cNvPicPr/>
          <p:nvPr/>
        </p:nvPicPr>
        <p:blipFill>
          <a:blip r:embed="rId2"/>
          <a:stretch/>
        </p:blipFill>
        <p:spPr>
          <a:xfrm>
            <a:off x="1676520" y="3124080"/>
            <a:ext cx="563868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Classic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opicality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as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ounterplans/kritik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isadvantages in descending thre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Advance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opicality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as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ounterplans/kritik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As in Nike Swoosh order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1" name="Picture 1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29541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1T01:11:55Z</dcterms:created>
  <dc:creator>Andres</dc:creator>
  <dc:description/>
  <dc:language>en-US</dc:language>
  <cp:lastModifiedBy>The Adams Family</cp:lastModifiedBy>
  <dcterms:modified xsi:type="dcterms:W3CDTF">2012-08-29T13:13:16Z</dcterms:modified>
  <cp:revision>21</cp:revision>
  <dc:subject/>
  <dc:title>2A Terrorism</dc:title>
</cp:coreProperties>
</file>